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00D-3DD7-4DD1-88E9-AC3E5EF9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2485-DFF9-49FA-AF81-79406B10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E7A-3036-4190-A9EA-61E0B44C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2F0-7971-47E1-8127-143FAEFA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1F35-216A-4D5E-994A-735BA174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BD22-7BCB-40A1-90D3-1EB6187C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7ED8-48B7-4DF8-BA49-A38F5391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8406-B76A-40E5-A9C7-64B336E8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8CBC-83CC-453E-BD81-DFB2CE78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0F99-323A-4EC5-B46F-0C2337F8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36F5-6192-4895-97D1-1952DB40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214-7384-4A90-A5DF-3C94E799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8186-6518-4AA0-9E03-938DAF33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3B7F-89C3-4872-9DA5-2ADAF4C3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EED2-2FE0-4D11-AABC-71B4E3F7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FCCD-93DF-490D-80C0-6D8F6283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7F8E-B6B4-4F48-9CE5-F1C056F6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8F37E-E90B-49E3-A3D7-33B8064E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D92CE-3CB3-4613-863B-75CF169F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29C1A-FDC5-41F0-BF2B-2CBE3B39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29DED-12D4-4D93-9032-5F2292AD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DE43F-DA06-425B-AD5F-B26B077A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ECF-95CD-46C6-8513-54243033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3401D-FCB6-4DCA-9D85-1DC4B239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194A8-787A-4F02-8B4D-48BF76D5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A7840-D38D-4A84-9BAA-43CE3FF2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C5247-FEF5-4A5F-80E0-6210BF73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9EE00-BEF8-48D4-B89E-61DBBAD7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547FD-1C5A-44E9-86E6-3B5F1135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B899-633A-4950-9184-3B7A5BF2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48468-52C1-45AE-A3A2-35728442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E7E68-99D9-4007-9327-07C2D6D5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5BA2D-64FA-4F69-9601-0E3D520D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1C8-30D3-4AE8-B77A-116878A1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019E0-A871-4E20-984D-C003FF7A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64DFB-FE1E-49D9-B2AE-FB15B7F1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19D43-D94F-4082-9728-B3429AC9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10E1A-B91B-4178-80B0-31FAC3E5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5A572-25D7-44D0-BADC-736A4DE6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18E0F-24D2-4E5E-A7D7-D5331BFE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DCF7F-57E2-497A-98D5-35CAE8E8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75F0B-124D-4B60-AC62-AE09B709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EA5FB-9DCD-4872-8FDE-65006652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C0E91-DC40-4482-962F-0174DD03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171-17F2-4E04-A4E9-E89A2D99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469A9-BD99-49B2-9EFE-5AE82C27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B185C-FE89-4CAF-9501-5D3525E0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D6659-BFD8-4179-A0B1-F846FB5E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3F1FC-7E0D-4835-AA04-9F371DC8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C55E3-E451-49EE-8261-678406A5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8CCE2-E19D-4C2A-8C95-2255FE49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8FAAF-083C-419C-964E-E3FE3FBC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7E414-EEAC-4F59-BED5-B64ABCDC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B5676-1F2F-480D-8DCE-115837E0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3149F-16A1-4D95-9585-23201CFD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AA2-1D18-47BD-82D0-20F9330B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B58D2-6DC3-4742-B4F4-76B24D60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AC014-998D-4812-A257-EACB233E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FF477-CCA3-4E89-B141-14770CCC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1A838-5D20-469B-85D2-86362539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D4A84-86B8-4443-8C40-AF058678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1A515-5870-443C-A28E-290A5F15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8E5BA-54C3-4EDC-81E3-713899BE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DAC83-E72B-4DA9-8E75-52F755A4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9F651-5758-4442-9799-6A341BF0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676E1-1BF3-440F-9F40-79710269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28C-32B2-4CCA-AD40-2AE6B0F1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7279F-B6F1-444E-8EAE-3B44A685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797C7-DED5-4636-9285-9FAAF257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E8BBB-F8FA-452F-8746-4D06D48F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96E01-C4F0-4F2F-AC17-CAC299A6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02144-2722-4DBB-864D-30A4AEE7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FBAE0-97E3-4F0F-9DAA-77937B91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A865D-394E-4C6B-BB29-9D6118DC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7A100-E3A6-4A47-9FF5-580A7973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1B57F-39C6-4CA0-B252-C2232E5D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38ACE-1D3D-4668-8EB0-60B7DDB5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249-F015-4F1F-B5E2-CB9FC998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5B206-4C1A-4FA3-8544-3D9FC9FD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F1183-03C2-4ED1-B89C-41DB6B02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8F368-841A-4029-8F8C-5D644DD1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41C58-C521-41C5-B750-D3AF2B1B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3C05B-F2AF-419B-B74D-634310F4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1DCDA-48C5-4760-8C6D-DB1B43C6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313CD-93AE-4A4E-B491-35FDFC7B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C61A9-497D-4004-9BFF-21794B06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E3559-56AA-4E49-B5C5-CA850C0C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37032-F56D-4755-B314-3EEDF841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9EE-2ACA-40FC-AA16-2E115E03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B8F1D-A9F3-4529-8C51-B17902C6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F5DF0-B676-4B9F-B57A-14A8F20C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6E179-D796-4FEF-8697-0A6AC384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17ACD-4AA7-4276-8FFE-C229DE7D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8927F-1AF1-4921-B7A7-9A5685FB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B35E8-FEFC-4FDC-AB47-4C59DFBB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E4245-E18D-4D0D-95B1-939808A1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1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139FA-8163-493A-9442-B1129B75A0B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53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055DB-AABC-4C23-B96B-28713896CE6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105" name="Straight Connector 16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17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-11160" y="-7920"/>
              <a:ext cx="115092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F56F3-0DFF-4F57-9E71-B3FC9C63BE6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157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17"/>
          <p:cNvSpPr/>
          <p:nvPr/>
        </p:nvSpPr>
        <p:spPr>
          <a:xfrm>
            <a:off x="642960" y="790560"/>
            <a:ext cx="611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8996400" y="2886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3287D-C6B7-48FC-903D-29971A9889D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211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17"/>
          <p:cNvSpPr/>
          <p:nvPr/>
        </p:nvSpPr>
        <p:spPr>
          <a:xfrm>
            <a:off x="642960" y="790560"/>
            <a:ext cx="611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8996400" y="2886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5C12E-6988-48DB-AC9E-E708BAF161A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265" name="Straight Connector 16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Straight Connector 17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Freeform 18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19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20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Freeform 22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Freeform 23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Freeform 24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-11160" y="-7920"/>
              <a:ext cx="115092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7CEFB-4A24-446B-B593-87FE43A059E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317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8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9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7" name="TextBox 17"/>
          <p:cNvSpPr/>
          <p:nvPr/>
        </p:nvSpPr>
        <p:spPr>
          <a:xfrm>
            <a:off x="642960" y="790560"/>
            <a:ext cx="611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8996400" y="2886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5C4D0-D675-4794-8FD7-C97D04927DE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371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2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3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4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5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6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7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8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9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0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81" name="TextBox 17"/>
          <p:cNvSpPr/>
          <p:nvPr/>
        </p:nvSpPr>
        <p:spPr>
          <a:xfrm>
            <a:off x="642960" y="790560"/>
            <a:ext cx="611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8996400" y="2886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CE554-D551-4311-B93B-B58F31EA8BD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docs.cntd.ru/document/1301308270#7EC0KH" TargetMode="External"/><Relationship Id="rId2" Type="http://schemas.openxmlformats.org/officeDocument/2006/relationships/hyperlink" Target="https://docs.cntd.ru/document/1301308270#7EG0KJ" TargetMode="External"/><Relationship Id="rId3" Type="http://schemas.openxmlformats.org/officeDocument/2006/relationships/hyperlink" Target="https://docs.cntd.ru/document/1301308270#7E20KB" TargetMode="External"/><Relationship Id="rId4" Type="http://schemas.openxmlformats.org/officeDocument/2006/relationships/hyperlink" Target="https://docs.cntd.ru/document/1301308270#7E20KB" TargetMode="External"/><Relationship Id="rId5" Type="http://schemas.openxmlformats.org/officeDocument/2006/relationships/hyperlink" Target="https://docs.cntd.ru/document/1301308270#7E20KB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236520"/>
            <a:ext cx="1219212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3f7819"/>
                </a:solidFill>
                <a:latin typeface="Arial Narrow"/>
              </a:rPr>
              <a:t>Рекомендации для тех, кто аттестуется</a:t>
            </a:r>
            <a:br>
              <a:rPr sz="5400"/>
            </a:br>
            <a:r>
              <a:rPr b="1" lang="ru-RU" sz="5400" spc="-1" strike="noStrike">
                <a:solidFill>
                  <a:srgbClr val="3f7819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3f7819"/>
                </a:solidFill>
                <a:latin typeface="Arial Narrow"/>
              </a:rPr>
              <a:t>/</a:t>
            </a:r>
            <a:r>
              <a:rPr b="1" lang="ru-RU" sz="3200" spc="-1" strike="noStrike">
                <a:solidFill>
                  <a:srgbClr val="3f7819"/>
                </a:solidFill>
                <a:latin typeface="Arial Narrow"/>
              </a:rPr>
              <a:t>информационные материалы по вопросам аттестации/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515880" y="4848120"/>
            <a:ext cx="115459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Arial Narrow"/>
              </a:rPr>
              <a:t>Вотякова Ирина Александровна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Arial Narrow"/>
              </a:rPr>
              <a:t>Методист  технического отдела аттестаци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Arial Narrow"/>
              </a:rPr>
              <a:t>педагогических кадров ГАУ ДПО НСО НИПКиПР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26" name="Рисунок 1" descr=""/>
          <p:cNvPicPr/>
          <p:nvPr/>
        </p:nvPicPr>
        <p:blipFill>
          <a:blip r:embed="rId1"/>
          <a:stretch/>
        </p:blipFill>
        <p:spPr>
          <a:xfrm>
            <a:off x="515880" y="2133720"/>
            <a:ext cx="66549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800" y="0"/>
            <a:ext cx="12099960" cy="17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5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валификационная категори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педагог-методист"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тся педагогическим работникам на основе следующих показателей деятельности, не входящей в должностные обязанности по занимаемой в организации должности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202680" y="1874520"/>
            <a:ext cx="124016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ководства методическим объединени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работников образовательной организации и активного участия в методической работе образовательной организ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ководства разработкой программно-методического сопровож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процесса, в том числе методического сопровождения реализации инновационных образовательных программ и проектов в образовательной организ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ой поддержки педагогических работник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 при подготовке к участию в профессиональных конкурсах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ия в методической поддержке (сопровождении) педагогических работник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, направленной на их профессиональное развитие, преодоление профессиональных дефицит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чи опыт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менению в образовательной организации авторских учебных и (или) учебно-методических разработок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.35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800" y="150840"/>
            <a:ext cx="12099960" cy="16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51.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ая категори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педагог-наставник"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тся педагогическим работникам на основе следующих показателей деятельности, не входящей в должностные обязанности по занимаемой в организации должности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203040" y="2141640"/>
            <a:ext cx="1168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руководства практической подготовкой студентов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по образовательным программам среднего профессионального образования и (или) образовательным программам высшего образования;                                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наставничества в отношении педагогических работник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, активного сопровождения их профессионального развития в образовательной организации;                содействия в подготовке педагогических работников, в том числе из числа молодых специалистов, к участию в конкурсах профессионального (педагогического) мастерства;                     - -     --распространения авторских подходов и методических разработок в области наставнической деятельности в образовательной организации.                                                   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2"/>
          <p:cNvSpPr/>
          <p:nvPr/>
        </p:nvSpPr>
        <p:spPr>
          <a:xfrm>
            <a:off x="614520" y="531720"/>
            <a:ext cx="1073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П.52. Оценка деятельност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их работников в целях установления квалификационных категорий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"педагог-методист" и "педагог-наставник"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уществляется аттестационной комиссией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 основе ходатайств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одателя, предусмотренного 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"/>
              </a:rPr>
              <a:t>п. 48  Поряд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 а также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казателе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едусмотренных      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2"/>
              </a:rPr>
              <a:t>п. 50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 и 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3"/>
              </a:rPr>
              <a:t>51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4"/>
              </a:rPr>
              <a:t> 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5"/>
              </a:rPr>
              <a:t>Порядка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1077912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86113"/>
                </a:solidFill>
                <a:latin typeface="Arial"/>
                <a:ea typeface="Arial"/>
              </a:rPr>
              <a:t>Проведите объективную самооценку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59" name="Объект 3" descr=""/>
          <p:cNvPicPr/>
          <p:nvPr/>
        </p:nvPicPr>
        <p:blipFill>
          <a:blip r:embed="rId1"/>
          <a:stretch/>
        </p:blipFill>
        <p:spPr>
          <a:xfrm>
            <a:off x="-6480" y="701640"/>
            <a:ext cx="12125520" cy="595476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: вниз 2"/>
          <p:cNvSpPr/>
          <p:nvPr/>
        </p:nvSpPr>
        <p:spPr>
          <a:xfrm>
            <a:off x="10769760" y="6018120"/>
            <a:ext cx="588960" cy="708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355680" y="93600"/>
          <a:ext cx="11701440" cy="6521400"/>
        </p:xfrm>
        <a:graphic>
          <a:graphicData uri="http://schemas.openxmlformats.org/drawingml/2006/table">
            <a:tbl>
              <a:tblPr/>
              <a:tblGrid>
                <a:gridCol w="11701440"/>
              </a:tblGrid>
              <a:tr h="1117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е актуальный период для систематизации документов и подготовки к аттеста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4ca"/>
                    </a:solidFill>
                  </a:tcPr>
                </a:tc>
              </a:tr>
              <a:tr h="540360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buClr>
                          <a:srgbClr val="90c226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ьте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н комплексных мероприятий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учетом ваших потребностей и возможностей,  в котором рекомендуем отрази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цель профессионального развити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бота над методической темо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зработка методических материалов; обобщение опыта рабо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вышение квалификаци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изация  инновационной и экспериментальной деятельности и т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педагог выбирает сво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дивидуальный маршрут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овершенствованию выявленных профессиональных потребносте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 учетом уровня своих притяз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127080" y="223920"/>
          <a:ext cx="11853720" cy="7119720"/>
        </p:xfrm>
        <a:graphic>
          <a:graphicData uri="http://schemas.openxmlformats.org/drawingml/2006/table">
            <a:tbl>
              <a:tblPr/>
              <a:tblGrid>
                <a:gridCol w="11853720"/>
              </a:tblGrid>
              <a:tr h="83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поминаем, что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6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валификационные категории,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установлен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до  вступления в силу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Приказа № 196 от   24.03.2023,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сохраняются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в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течение срока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на который они были установлены.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2 Приказ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 избежание дополнительных запросов об аттестуемом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комендуетс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ложить в пакет документ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 (копия документ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й итоги предыдущей аттестации (если получатель услуг был ранее аттестова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 (копия документ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й назначение на должность, по которой аттестуется получатель услу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кумент об образован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Схема 3" descr=""/>
          <p:cNvPicPr/>
          <p:nvPr/>
        </p:nvPicPr>
        <p:blipFill>
          <a:blip r:embed="rId1"/>
          <a:stretch/>
        </p:blipFill>
        <p:spPr>
          <a:xfrm>
            <a:off x="165240" y="96840"/>
            <a:ext cx="11831400" cy="1103400"/>
          </a:xfrm>
          <a:prstGeom prst="rect">
            <a:avLst/>
          </a:prstGeom>
          <a:ln w="0">
            <a:noFill/>
          </a:ln>
        </p:spPr>
      </p:pic>
      <p:pic>
        <p:nvPicPr>
          <p:cNvPr id="464" name="Содержимое 2" descr=""/>
          <p:cNvPicPr/>
          <p:nvPr/>
        </p:nvPicPr>
        <p:blipFill>
          <a:blip r:embed="rId2"/>
          <a:stretch/>
        </p:blipFill>
        <p:spPr>
          <a:xfrm>
            <a:off x="30240" y="1109520"/>
            <a:ext cx="1219824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3"/>
          <p:cNvSpPr/>
          <p:nvPr/>
        </p:nvSpPr>
        <p:spPr>
          <a:xfrm>
            <a:off x="316080" y="-212760"/>
            <a:ext cx="11559960" cy="679248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ите  решени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в какой фор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ете подавать заявл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непосредственная подач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аттестационную комиссию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правление заявления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о почтовому адрес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иссии (с уведомлением о вручении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правление в форме электронного документа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через автоматизированную информационную систему (АИС)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боты в электронной системе по аттестации нужно зайти по ссылке http://att.edu54.ru Обязательно проконтролируйте зарегистрировано ли ваше заявление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 подачей заявления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через АИ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зательно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убедитесь, ч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Вас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есть курирующий методист.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ет - Ваше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заявление пропаде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Схема 3" descr=""/>
          <p:cNvPicPr/>
          <p:nvPr/>
        </p:nvPicPr>
        <p:blipFill>
          <a:blip r:embed="rId1"/>
          <a:stretch/>
        </p:blipFill>
        <p:spPr>
          <a:xfrm>
            <a:off x="298440" y="298440"/>
            <a:ext cx="11565000" cy="7682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588960" y="1056960"/>
            <a:ext cx="11268000" cy="5800680"/>
          </a:xfrm>
          <a:prstGeom prst="rect">
            <a:avLst/>
          </a:prstGeom>
          <a:noFill/>
          <a:ln cap="rnd" w="12600">
            <a:solidFill>
              <a:srgbClr val="e6b91e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проверьте правильность заполнения  сведений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фамилия, имя, отчеств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если е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олж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авильн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наименование организа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торой работает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определитесь с выбором предметной группы, если подаете через АИС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нимательно выбирайте предметную обла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собенно сфера культуры, ДОП, ДОУ,  коррекция, физкультура и ОБЖ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используйте возможности индивидуальных консультац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методис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одержательному наполнению заявл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приложения к нем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желаете присутствовать на заседании АК, отметьте это в заявлени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Схема 3" descr=""/>
          <p:cNvPicPr/>
          <p:nvPr/>
        </p:nvPicPr>
        <p:blipFill>
          <a:blip r:embed="rId1"/>
          <a:stretch/>
        </p:blipFill>
        <p:spPr>
          <a:xfrm>
            <a:off x="165240" y="85680"/>
            <a:ext cx="12166560" cy="11098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161640" y="1260000"/>
            <a:ext cx="12030120" cy="5597640"/>
          </a:xfrm>
          <a:prstGeom prst="rect">
            <a:avLst/>
          </a:prstGeom>
          <a:noFill/>
          <a:ln cap="rnd" w="12600">
            <a:solidFill>
              <a:srgbClr val="e6b91e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проверьте правильность подачи документов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едоставляете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структурированную и систематизированную информацию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о профессиональной деятельност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имательно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изучите инструкцию и алгорит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одаете документы через АИС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икрепляемые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файлы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должны быть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в формате pdf, jpeg, png, не больше 5 мб. 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вложит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в пакет (подгрузить скан, если через АИС)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докумен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копия документа),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подтверждающий назначение на должность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по которой проходите аттестацию и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документ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(копия документа), подтверждающий итоги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предыдущей аттестац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если подаете на высшую КК);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документ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об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образовани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(п.28.Порядок аттестации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не забудьте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заверить документы работодателе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 установленном порядке, предусмотренном законодательством.  (п.41 Регламента)        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2120" y="220680"/>
            <a:ext cx="11731680" cy="110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Arial"/>
                <a:ea typeface="Arial"/>
              </a:rPr>
              <a:t>нормативные документы по вопросам аттестации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-132120" y="984240"/>
            <a:ext cx="12574440" cy="770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0070c0"/>
                </a:solidFill>
                <a:latin typeface="Trebuchet MS"/>
              </a:rPr>
              <a:t>-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 Федеральны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 29.12.2012 № 273-ФЗ «Об образовании в Российской Федерации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</a:t>
            </a:r>
            <a:r>
              <a:rPr b="1" lang="ru-RU" sz="2800" spc="-1" strike="noStrike">
                <a:solidFill>
                  <a:srgbClr val="932313"/>
                </a:solidFill>
                <a:latin typeface="Times New Roman"/>
                <a:ea typeface="Calibri"/>
              </a:rPr>
              <a:t>Документы прямого действия  обязатель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изучения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-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Приказ  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Министерства просвещения РФ от 24.03.2023 № 196 </a:t>
            </a: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Об утверждении Порядка</a:t>
            </a: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оведения аттестации</a:t>
            </a: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педагогических работников организаций, осуществляющих образовательную деятельность»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ОТВЕТЫ</a:t>
            </a:r>
            <a:r>
              <a:rPr b="1" i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Департамента     подготовки профессионального развития и социального обеспечения педагогических работников  Министерства просвещения РФ  и Профсоюза работников народного образования и науки РФ по применению Порядка аттестации от 24 марта 2023 г. № 19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- Регламент  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(в ред. приказа министерства образования Новосибирской области от 04.10.2023 № 2180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701640" y="189000"/>
          <a:ext cx="10007640" cy="7121520"/>
        </p:xfrm>
        <a:graphic>
          <a:graphicData uri="http://schemas.openxmlformats.org/drawingml/2006/table">
            <a:tbl>
              <a:tblPr/>
              <a:tblGrid>
                <a:gridCol w="100076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НА ЗАМЕТКУ! 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поминаем порядок заверения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заверительная надпись «Верно»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должность лица, заверившего документы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подпись заверившего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сшифровка подписи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ата заверения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ечать организации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Схема 3" descr=""/>
          <p:cNvPicPr/>
          <p:nvPr/>
        </p:nvPicPr>
        <p:blipFill>
          <a:blip r:embed="rId1"/>
          <a:stretch/>
        </p:blipFill>
        <p:spPr>
          <a:xfrm>
            <a:off x="298440" y="60480"/>
            <a:ext cx="11734920" cy="18651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588960" y="2671920"/>
            <a:ext cx="11268000" cy="4186080"/>
          </a:xfrm>
          <a:prstGeom prst="rect">
            <a:avLst/>
          </a:prstGeom>
          <a:noFill/>
          <a:ln cap="rnd" w="12600">
            <a:solidFill>
              <a:srgbClr val="e6b91e"/>
            </a:solidFill>
            <a:miter/>
          </a:ln>
        </p:spPr>
        <p:txBody>
          <a:bodyPr anchor="t">
            <a:normAutofit/>
          </a:bodyPr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е работники на более высокую или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ту же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 предоставьте сведения, подтверждающие наличи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наград, званий, знаков отличия, сведений о награждения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участие в профессиональных конкурсах, которые получены в течение пяти лет предшествующих аттестации;               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3" name="Рисунок 1" descr=""/>
          <p:cNvPicPr/>
          <p:nvPr/>
        </p:nvPicPr>
        <p:blipFill>
          <a:blip r:embed="rId2"/>
          <a:stretch/>
        </p:blipFill>
        <p:spPr>
          <a:xfrm>
            <a:off x="5402160" y="1905120"/>
            <a:ext cx="820800" cy="69048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4" descr=""/>
          <p:cNvPicPr/>
          <p:nvPr/>
        </p:nvPicPr>
        <p:blipFill>
          <a:blip r:embed="rId3"/>
          <a:stretch/>
        </p:blipFill>
        <p:spPr>
          <a:xfrm>
            <a:off x="9053640" y="6227640"/>
            <a:ext cx="8348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3"/>
          <p:cNvSpPr/>
          <p:nvPr/>
        </p:nvSpPr>
        <p:spPr>
          <a:xfrm>
            <a:off x="284040" y="0"/>
            <a:ext cx="11561760" cy="67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а)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учил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государственные наград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филю педагогической деятельности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тные з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ачинающиеся со слов «Народный», «Заслуженный»;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ведомствен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ки отлич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«Отличник народного просвещения», «Отличник профессионально-технического образования», «Почетный работник общего образования Российской Федерации»; другие почетные звания и ведомственные знаки отличия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граждены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ведомственным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грудными знак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(«За заслуги в образовании», «За вклад в Российскую культуру» и др.), медалью К.Д. Ушинского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тной грамотой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езидента Российской Федерац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Благодарностью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езидента Российской Федерац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Почетными грамотам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б)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л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едителями конкурс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мках реализации приоритетног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ционального проекта «Образование»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6" name="Рисунок 1" descr=""/>
          <p:cNvPicPr/>
          <p:nvPr/>
        </p:nvPicPr>
        <p:blipFill>
          <a:blip r:embed="rId1"/>
          <a:stretch/>
        </p:blipFill>
        <p:spPr>
          <a:xfrm>
            <a:off x="6867360" y="-752400"/>
            <a:ext cx="2114640" cy="75240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1" descr=""/>
          <p:cNvPicPr/>
          <p:nvPr/>
        </p:nvPicPr>
        <p:blipFill>
          <a:blip r:embed="rId2"/>
          <a:stretch/>
        </p:blipFill>
        <p:spPr>
          <a:xfrm>
            <a:off x="8005680" y="6248520"/>
            <a:ext cx="1128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3"/>
          <p:cNvSpPr/>
          <p:nvPr/>
        </p:nvSpPr>
        <p:spPr>
          <a:xfrm>
            <a:off x="284040" y="0"/>
            <a:ext cx="11776320" cy="60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в)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л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едителя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зера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дипломанта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лауреата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ждународных, федеральных и областных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(очных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урс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 профилю деятельности аттестуемого работника («Учитель года», «Воспитатель года», «Педагог-психолог года», «Сердце отдаю детям», «Вожатый года», «Преподаватель года», «Лучший мастер по профессии», «Лидер в образовании», «Педагогический дебют», «Лучший преподаватель детской школы искусств», «Мастер года», «Учитель-дефектолог России», «Лучший учитель татарского языка и литературы», «Первый учитель»)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государственных преми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осибирской области;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международного, федерального, регионального уровней – на высшую квалификационную категорию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c3c43"/>
                </a:solidFill>
                <a:latin typeface="Times New Roman"/>
                <a:ea typeface="Calibri"/>
              </a:rPr>
              <a:t>-</a:t>
            </a:r>
            <a:r>
              <a:rPr b="0" lang="ru-RU" sz="2800" spc="-1" strike="noStrike">
                <a:solidFill>
                  <a:srgbClr val="2c3c43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муниципальн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ровня – н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ерву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валификационную категорию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9" name="Рисунок 1" descr=""/>
          <p:cNvPicPr/>
          <p:nvPr/>
        </p:nvPicPr>
        <p:blipFill>
          <a:blip r:embed="rId1"/>
          <a:stretch/>
        </p:blipFill>
        <p:spPr>
          <a:xfrm>
            <a:off x="6867360" y="-752400"/>
            <a:ext cx="7099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Схема 3" descr=""/>
          <p:cNvPicPr/>
          <p:nvPr/>
        </p:nvPicPr>
        <p:blipFill>
          <a:blip r:embed="rId1"/>
          <a:stretch/>
        </p:blipFill>
        <p:spPr>
          <a:xfrm>
            <a:off x="298440" y="23760"/>
            <a:ext cx="11569680" cy="11286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588960" y="1127160"/>
            <a:ext cx="11268000" cy="5649840"/>
          </a:xfrm>
          <a:prstGeom prst="rect">
            <a:avLst/>
          </a:prstGeom>
          <a:noFill/>
          <a:ln cap="rnd" w="12600">
            <a:solidFill>
              <a:srgbClr val="e6b91e"/>
            </a:solidFill>
            <a:miter/>
          </a:ln>
        </p:spPr>
        <p:txBody>
          <a:bodyPr anchor="t">
            <a:normAutofit/>
          </a:bodyPr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е работники, имеющие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ученые звания и степен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и аттестации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на ту же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лификационную категорию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имеете первую КК , подать можно по льготе на первую КК, а на высшую КК – на общих основания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Стрелка: вниз 1"/>
          <p:cNvSpPr/>
          <p:nvPr/>
        </p:nvSpPr>
        <p:spPr>
          <a:xfrm>
            <a:off x="5538960" y="995400"/>
            <a:ext cx="793440" cy="914400"/>
          </a:xfrm>
          <a:prstGeom prst="downArrow">
            <a:avLst>
              <a:gd name="adj1" fmla="val 50000"/>
              <a:gd name="adj2" fmla="val 4565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800" y="91800"/>
            <a:ext cx="11937960" cy="110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НА ЗАМЕТКУ!        </a:t>
            </a:r>
            <a:r>
              <a:rPr b="1" lang="ru-RU" sz="3200" spc="-1" strike="noStrike">
                <a:solidFill>
                  <a:srgbClr val="486113"/>
                </a:solidFill>
                <a:latin typeface="Arial"/>
                <a:ea typeface="Arial"/>
              </a:rPr>
              <a:t>Вам может быть отказано </a:t>
            </a:r>
            <a:r>
              <a:rPr b="1" lang="ru-RU" sz="2800" spc="-1" strike="noStrike">
                <a:solidFill>
                  <a:srgbClr val="486113"/>
                </a:solidFill>
                <a:latin typeface="Arial"/>
                <a:ea typeface="Arial"/>
              </a:rPr>
              <a:t>в приеме заявления, если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95200" y="1473120"/>
            <a:ext cx="1159200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45072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щение за установлением той же самой квалификационной категории (первой или высшей) следует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до истечения 1 года об отказ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К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установлении этой квалификационной категории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со дн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ятия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еш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той же должност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lnSpc>
                <a:spcPct val="101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45072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щаетесь с заявлением в аттестационную комиссию, но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на день подачи заявления не замещаете должнос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ого работника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в организации, осуществляющей образовательную деятельнос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lnSpc>
                <a:spcPct val="101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lnSpc>
                <a:spcPct val="101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lnSpc>
                <a:spcPct val="101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Схема 3" descr=""/>
          <p:cNvPicPr/>
          <p:nvPr/>
        </p:nvPicPr>
        <p:blipFill>
          <a:blip r:embed="rId1"/>
          <a:stretch/>
        </p:blipFill>
        <p:spPr>
          <a:xfrm>
            <a:off x="-23760" y="225360"/>
            <a:ext cx="12069720" cy="1444680"/>
          </a:xfrm>
          <a:prstGeom prst="rect">
            <a:avLst/>
          </a:prstGeom>
          <a:ln w="0">
            <a:noFill/>
          </a:ln>
        </p:spPr>
      </p:pic>
      <p:pic>
        <p:nvPicPr>
          <p:cNvPr id="486" name="Объект 5" descr=""/>
          <p:cNvPicPr/>
          <p:nvPr/>
        </p:nvPicPr>
        <p:blipFill>
          <a:blip r:embed="rId2"/>
          <a:stretch/>
        </p:blipFill>
        <p:spPr>
          <a:xfrm>
            <a:off x="176040" y="1407960"/>
            <a:ext cx="118033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82800" y="345960"/>
            <a:ext cx="79977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Отрицательное решение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63600" y="1854360"/>
            <a:ext cx="9321840" cy="41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(об отказе в установлении квалификационной категории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Calibri"/>
              </a:rPr>
              <a:t>направляется уведомл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заявителю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отказе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высшей КК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храняется имеющаяся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вая КК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была установлена после 1 сентября 2023 года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п.40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рядок аттестаци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отказан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обращаетесь  по желанию на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ту же КК не ранее чем через год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п.41 Порядок аттестации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5400" y="134640"/>
            <a:ext cx="1176012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rebuchet MS"/>
              </a:rPr>
              <a:t>Информация, необходимая педагогическому работнику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" y="820800"/>
            <a:ext cx="1148076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сультации  в техническом отделе аттестации НИПК и ПРО начальник отдела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хоманова Наталья Романовна тел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3-27-0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.почт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tt09@mail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исты отдела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тякова Ирина Александровна те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3-50-06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.почт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tt-09@yandex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инина Екатерина Александровна тел.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3-50-0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.почта –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binina@ngs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ческая поддержка (если подаете заявление через АИС)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лучае ошибок, сбоев, неисправностей и других проблем, связанных с работой самой системы, обращайтесь в службу технической поддерж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зловский Ярослав Александрович.      тел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 963 942 13 18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онедельник -Пятница с 9:00 до 17:00).      E-mail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tt@oblcit.ru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34680" y="90360"/>
            <a:ext cx="10922040" cy="17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92" name="Рисунок 1" descr=""/>
          <p:cNvPicPr/>
          <p:nvPr/>
        </p:nvPicPr>
        <p:blipFill>
          <a:blip r:embed="rId1"/>
          <a:stretch/>
        </p:blipFill>
        <p:spPr>
          <a:xfrm>
            <a:off x="839880" y="2117880"/>
            <a:ext cx="98820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3f7819"/>
                </a:solidFill>
                <a:latin typeface="Arial"/>
                <a:ea typeface="Arial"/>
              </a:rPr>
              <a:t>        </a:t>
            </a:r>
            <a:r>
              <a:rPr b="1" lang="ru-RU" sz="4000" spc="-1" strike="noStrike">
                <a:solidFill>
                  <a:srgbClr val="2a5010"/>
                </a:solidFill>
                <a:latin typeface="Arial"/>
                <a:ea typeface="Arial"/>
              </a:rPr>
              <a:t>Рекомендуем ознакомиться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1320" y="1526760"/>
            <a:ext cx="1173636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Приказ Министерства здравоохранения и социального развития РФ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26 августа 2010 г. N 761н  «Об утверждении Единого квалификационного справочника должностей руководителей, специалистов и служащих, раздел "Квалификационные </a:t>
            </a:r>
            <a:r>
              <a:rPr b="1" lang="ru-RU" sz="2800" spc="-1" strike="noStrike">
                <a:solidFill>
                  <a:srgbClr val="2a5010"/>
                </a:solidFill>
                <a:latin typeface="Arial"/>
                <a:ea typeface="Arial"/>
              </a:rPr>
              <a:t>характеристики должносте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ботников образования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Постановление  Правительства РФ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21 февраля 2022 г. N  225   «Об утверждении </a:t>
            </a:r>
            <a:r>
              <a:rPr b="1" lang="ru-RU" sz="2800" spc="-1" strike="noStrike">
                <a:solidFill>
                  <a:srgbClr val="2a5010"/>
                </a:solidFill>
                <a:latin typeface="Arial"/>
                <a:ea typeface="Arial"/>
              </a:rPr>
              <a:t>номенклатуры должносте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их работников организаций, осуществляющих образовательную деятельность, должностей руководителей образовательных организаций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3160" y="232920"/>
            <a:ext cx="11633040" cy="13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Times New Roman"/>
                <a:ea typeface="MS Mincho"/>
              </a:rPr>
              <a:t>Найти нормативные документы по аттестации и ознакомиться с памятками </a:t>
            </a:r>
            <a:r>
              <a:rPr b="1" lang="ru-RU" sz="2800" spc="-1" strike="noStrike">
                <a:solidFill>
                  <a:srgbClr val="3f7819"/>
                </a:solidFill>
                <a:latin typeface="Times New Roman"/>
                <a:ea typeface="MS Mincho"/>
              </a:rPr>
              <a:t>и методическими </a:t>
            </a:r>
            <a:r>
              <a:rPr b="1" lang="ru-RU" sz="2800" spc="-1" strike="noStrike">
                <a:solidFill>
                  <a:srgbClr val="932313"/>
                </a:solidFill>
                <a:latin typeface="Times New Roman"/>
                <a:ea typeface="MS Mincho"/>
              </a:rPr>
              <a:t>рекомендациями</a:t>
            </a:r>
            <a:r>
              <a:rPr b="1" lang="ru-RU" sz="2800" spc="-1" strike="noStrike">
                <a:solidFill>
                  <a:srgbClr val="3f7819"/>
                </a:solidFill>
                <a:latin typeface="Times New Roman"/>
                <a:ea typeface="MS Mincho"/>
              </a:rPr>
              <a:t> по заполнению приложения к заявлению можно  </a:t>
            </a:r>
            <a:r>
              <a:rPr b="1" lang="ru-RU" sz="2800" spc="-1" strike="noStrike">
                <a:solidFill>
                  <a:srgbClr val="932313"/>
                </a:solidFill>
                <a:latin typeface="Times New Roman"/>
                <a:ea typeface="MS Mincho"/>
              </a:rPr>
              <a:t>на сайте НИПКиПР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92160" y="1616040"/>
          <a:ext cx="11988720" cy="5013360"/>
        </p:xfrm>
        <a:graphic>
          <a:graphicData uri="http://schemas.openxmlformats.org/drawingml/2006/table">
            <a:tbl>
              <a:tblPr/>
              <a:tblGrid>
                <a:gridCol w="119887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ужно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зайти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«НИПКиПРО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ведения об образовательной организаци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труктура и органы управления образовательной организацией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Times New Roman"/>
                        </a:rPr>
                        <a:t>технический отдел аттестации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х кадров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Times New Roman"/>
                        </a:rPr>
                        <a:t>документац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  <p:sp>
        <p:nvSpPr>
          <p:cNvPr id="433" name="Стрелка: вниз 3"/>
          <p:cNvSpPr/>
          <p:nvPr/>
        </p:nvSpPr>
        <p:spPr>
          <a:xfrm>
            <a:off x="5843520" y="1930320"/>
            <a:ext cx="484200" cy="325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Стрелка: вниз 4"/>
          <p:cNvSpPr/>
          <p:nvPr/>
        </p:nvSpPr>
        <p:spPr>
          <a:xfrm>
            <a:off x="8067600" y="2803680"/>
            <a:ext cx="496800" cy="426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Стрелка: вниз 5"/>
          <p:cNvSpPr/>
          <p:nvPr/>
        </p:nvSpPr>
        <p:spPr>
          <a:xfrm>
            <a:off x="2722680" y="4206960"/>
            <a:ext cx="484200" cy="5508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Стрелка: вниз 6"/>
          <p:cNvSpPr/>
          <p:nvPr/>
        </p:nvSpPr>
        <p:spPr>
          <a:xfrm>
            <a:off x="2722680" y="5384880"/>
            <a:ext cx="579240" cy="426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792000" y="189000"/>
          <a:ext cx="10922040" cy="6489720"/>
        </p:xfrm>
        <a:graphic>
          <a:graphicData uri="http://schemas.openxmlformats.org/drawingml/2006/table">
            <a:tbl>
              <a:tblPr/>
              <a:tblGrid>
                <a:gridCol w="10922040"/>
              </a:tblGrid>
              <a:tr h="1116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2a5010"/>
                          </a:solidFill>
                          <a:latin typeface="Times New Roman"/>
                          <a:ea typeface="MS Mincho"/>
                        </a:rPr>
                        <a:t>Основные нововведения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4ca"/>
                    </a:solidFill>
                  </a:tcPr>
                </a:tc>
              </a:tr>
              <a:tr h="60552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срок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установления КК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не ограничен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8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новые КК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«педагог-методист»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«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педагог-наставник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2072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для аттестации на высшую КК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нет ограничений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лительности наличия установленной  1КК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(по любой из должностей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625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аттестации на КК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«педагог-методист»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«педагог-наставник»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Times New Roman"/>
                        </a:rPr>
                        <a:t> нет ограничений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сти наличия установленной  высшей К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5440" y="609120"/>
            <a:ext cx="10942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ВИДЫ квалификационных категорий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Половина рамки 9"/>
          <p:cNvSpPr/>
          <p:nvPr/>
        </p:nvSpPr>
        <p:spPr>
          <a:xfrm>
            <a:off x="777960" y="4897440"/>
            <a:ext cx="2265120" cy="1468440"/>
          </a:xfrm>
          <a:custGeom>
            <a:avLst/>
            <a:gdLst/>
            <a:ahLst/>
            <a:rect l="l" t="t" r="r" b="b"/>
            <a:pathLst>
              <a:path w="2265362" h="1468438">
                <a:moveTo>
                  <a:pt x="0" y="0"/>
                </a:moveTo>
                <a:lnTo>
                  <a:pt x="2265362" y="0"/>
                </a:lnTo>
                <a:lnTo>
                  <a:pt x="1510249" y="489474"/>
                </a:lnTo>
                <a:lnTo>
                  <a:pt x="489474" y="489474"/>
                </a:lnTo>
                <a:lnTo>
                  <a:pt x="489474" y="1151154"/>
                </a:lnTo>
                <a:lnTo>
                  <a:pt x="0" y="1468438"/>
                </a:lnTo>
                <a:lnTo>
                  <a:pt x="0" y="0"/>
                </a:lnTo>
                <a:close/>
              </a:path>
            </a:pathLst>
          </a:custGeom>
          <a:solidFill>
            <a:srgbClr val="dbf4ca"/>
          </a:solidFill>
          <a:ln cap="rnd" w="19080">
            <a:solidFill>
              <a:srgbClr val="3a5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Половина рамки 10"/>
          <p:cNvSpPr/>
          <p:nvPr/>
        </p:nvSpPr>
        <p:spPr>
          <a:xfrm>
            <a:off x="3389400" y="3882960"/>
            <a:ext cx="2163600" cy="1393920"/>
          </a:xfrm>
          <a:custGeom>
            <a:avLst/>
            <a:gdLst/>
            <a:ahLst/>
            <a:rect l="l" t="t" r="r" b="b"/>
            <a:pathLst>
              <a:path w="2163762" h="1393826">
                <a:moveTo>
                  <a:pt x="0" y="0"/>
                </a:moveTo>
                <a:lnTo>
                  <a:pt x="2163762" y="0"/>
                </a:lnTo>
                <a:lnTo>
                  <a:pt x="1442515" y="464604"/>
                </a:lnTo>
                <a:lnTo>
                  <a:pt x="464604" y="464604"/>
                </a:lnTo>
                <a:lnTo>
                  <a:pt x="464604" y="1094543"/>
                </a:lnTo>
                <a:lnTo>
                  <a:pt x="0" y="1393826"/>
                </a:lnTo>
                <a:lnTo>
                  <a:pt x="0" y="0"/>
                </a:lnTo>
                <a:close/>
              </a:path>
            </a:pathLst>
          </a:custGeom>
          <a:solidFill>
            <a:srgbClr val="dbf4ca"/>
          </a:solidFill>
          <a:ln cap="rnd" w="19080">
            <a:solidFill>
              <a:srgbClr val="3a5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Половина рамки 11"/>
          <p:cNvSpPr/>
          <p:nvPr/>
        </p:nvSpPr>
        <p:spPr>
          <a:xfrm>
            <a:off x="7061040" y="2651040"/>
            <a:ext cx="3870360" cy="1941480"/>
          </a:xfrm>
          <a:custGeom>
            <a:avLst/>
            <a:gdLst/>
            <a:ahLst/>
            <a:rect l="l" t="t" r="r" b="b"/>
            <a:pathLst>
              <a:path w="3870325" h="1941513">
                <a:moveTo>
                  <a:pt x="0" y="0"/>
                </a:moveTo>
                <a:lnTo>
                  <a:pt x="3870325" y="0"/>
                </a:lnTo>
                <a:lnTo>
                  <a:pt x="2580230" y="647165"/>
                </a:lnTo>
                <a:lnTo>
                  <a:pt x="647165" y="647165"/>
                </a:lnTo>
                <a:lnTo>
                  <a:pt x="647165" y="1616869"/>
                </a:lnTo>
                <a:lnTo>
                  <a:pt x="0" y="1941513"/>
                </a:lnTo>
                <a:lnTo>
                  <a:pt x="0" y="0"/>
                </a:lnTo>
                <a:close/>
              </a:path>
            </a:pathLst>
          </a:custGeom>
          <a:solidFill>
            <a:srgbClr val="dbf4ca"/>
          </a:solidFill>
          <a:ln cap="rnd" w="19080">
            <a:solidFill>
              <a:srgbClr val="3a5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627120" y="4398840"/>
            <a:ext cx="203040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ервая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Calibri"/>
              </a:rPr>
              <a:t>КК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TextBox 15"/>
          <p:cNvSpPr/>
          <p:nvPr/>
        </p:nvSpPr>
        <p:spPr>
          <a:xfrm>
            <a:off x="3198960" y="3397320"/>
            <a:ext cx="216360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Высшая К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TextBox 23"/>
          <p:cNvSpPr/>
          <p:nvPr/>
        </p:nvSpPr>
        <p:spPr>
          <a:xfrm>
            <a:off x="7061040" y="1257480"/>
            <a:ext cx="5054760" cy="32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32313"/>
                </a:solidFill>
                <a:latin typeface="Times New Roman"/>
                <a:ea typeface="Calibri"/>
              </a:rPr>
              <a:t>        </a:t>
            </a:r>
            <a:r>
              <a:rPr b="1" lang="ru-RU" sz="3200" spc="-1" strike="noStrike">
                <a:solidFill>
                  <a:srgbClr val="932313"/>
                </a:solidFill>
                <a:latin typeface="Times New Roman"/>
                <a:ea typeface="Calibri"/>
              </a:rPr>
              <a:t>педагог-методист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проходят лица занимающие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лжности </a:t>
            </a:r>
            <a:r>
              <a:rPr b="1" lang="ru-RU" sz="2000" spc="-1" strike="noStrike">
                <a:solidFill>
                  <a:srgbClr val="932313"/>
                </a:solidFill>
                <a:latin typeface="Times New Roman"/>
                <a:ea typeface="Calibri"/>
              </a:rPr>
              <a:t>методист и старший методи</a:t>
            </a:r>
            <a:r>
              <a:rPr b="1" lang="ru-RU" sz="2400" spc="-1" strike="noStrike">
                <a:solidFill>
                  <a:srgbClr val="932313"/>
                </a:solidFill>
                <a:latin typeface="Times New Roman"/>
                <a:ea typeface="Calibri"/>
              </a:rPr>
              <a:t>ст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32313"/>
                </a:solidFill>
                <a:latin typeface="Times New Roman"/>
                <a:ea typeface="Calibri"/>
              </a:rPr>
              <a:t>педагог-наставник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TextBox 3"/>
          <p:cNvSpPr/>
          <p:nvPr/>
        </p:nvSpPr>
        <p:spPr>
          <a:xfrm>
            <a:off x="1684440" y="5419800"/>
            <a:ext cx="39034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ные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язан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едагогической долж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TextBox 5"/>
          <p:cNvSpPr/>
          <p:nvPr/>
        </p:nvSpPr>
        <p:spPr>
          <a:xfrm>
            <a:off x="6932520" y="4575240"/>
            <a:ext cx="4565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32313"/>
                </a:solidFill>
                <a:latin typeface="Times New Roman"/>
                <a:ea typeface="Calibri"/>
              </a:rPr>
              <a:t>дополнительные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н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анные с методической работой или наставничеств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800" y="-360"/>
            <a:ext cx="12099960" cy="17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35   Первая КК</a:t>
            </a:r>
            <a:r>
              <a:rPr b="1" lang="ru-RU" sz="29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м работникам устанавливается на основе: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-162360" y="1100160"/>
            <a:ext cx="1226196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- стабильных положительных результатов осво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ающимися образовательных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грам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в том числе в области искусств, физической культуры и спорта по итогам мониторингов, проводимых организаци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- стабильных положительных результат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ения обучающимися образовательных программ по итогам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мониторинга системы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оводимого в порядке, установленном постановлением Правительства Российской Федерации от 5 августа 2013 г. N 66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- выявления развит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обучающихс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способност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 научной (интеллектуальной), творческой, физкультурно-спортивной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- личного вкла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овышение качества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совершенствования методов обучения и воспитания,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транслир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педагогических коллективах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опы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актических результатов своей профессиональной деятельности,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активного участия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е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методических объединен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х работников организ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.35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51120" y="196560"/>
            <a:ext cx="1219212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36. Высшая КК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м работникам устанавливается на основе: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203040" y="1480680"/>
            <a:ext cx="1168416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Arial"/>
                <a:ea typeface="Times New Roman"/>
              </a:rPr>
              <a:t>-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достижени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ающимися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положительной динамики результат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ения образовательных программ, в том числе в области искусств, физической культуры и спорта по итогам мониторингов, проводимых организацией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-  достижения обучающимися положительных результат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ения образовательных программ по итогам мониторинга системы образования, проводимого в порядке, установленном постановлением Правительства Российской Федерации от 5 августа 2013 г. N 662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just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- выявления и развити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ей обучающихся к научной (интеллектуальной), творческой, физкультурно-спортивной деятельности, а также их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участия в олимпиадах, конкурсах, фестивалях, соревнованиях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7f7f7f"/>
                </a:solidFill>
                <a:latin typeface="Trebuchet MS"/>
              </a:rPr>
              <a:t>П.35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Стрелка: вниз 1"/>
          <p:cNvSpPr/>
          <p:nvPr/>
        </p:nvSpPr>
        <p:spPr>
          <a:xfrm>
            <a:off x="9275760" y="6661080"/>
            <a:ext cx="666720" cy="596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538200" y="782640"/>
            <a:ext cx="10455120" cy="61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- личного вклада в повышение качества образов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совершенствования методов обучения и воспитания, и продуктивного использования новых образовательных технологий,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транслиров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 педагогических коллективах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опы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актических результатов своей профессиональной деятельности, в том числе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экспериментальной и инновационной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- активного участ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аботе методических объединен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х работников организаций, в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азработке программно-методического сопровожд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овательного процесса,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фессиональных конкурсах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2T06:57:22Z</dcterms:created>
  <dc:creator>Лихоманова</dc:creator>
  <dc:description/>
  <dc:language>en-US</dc:language>
  <cp:lastModifiedBy>ЛихомановаНР</cp:lastModifiedBy>
  <cp:lastPrinted>2023-08-22T03:38:00Z</cp:lastPrinted>
  <dcterms:modified xsi:type="dcterms:W3CDTF">2024-09-12T03:57:07Z</dcterms:modified>
  <cp:revision>300</cp:revision>
  <dc:subject/>
  <dc:title>АТТЕСТАЦИЯ ПЕДАГОГИЧЕСКИХ РАБОТНИКОВ</dc:title>
</cp:coreProperties>
</file>